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27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3.jpeg" ContentType="image/jpeg"/>
  <Override PartName="/ppt/media/image26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23C-DFA6-4AC0-A8F1-75F43392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97E-26D7-4F1E-B01D-161840C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4F2-73F7-4404-AB7D-02286A3C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12D-0030-422C-BA55-E7AF336B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6FE-946D-4C28-ACDC-59C6CC2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8BE-AAB6-4450-B6CA-C0BEC2A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4F0-EA3B-4941-A61F-46F65D4F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493-ED15-4023-BCDB-FA27D26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A7A-1B16-4E85-8993-2A192BF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B90-780E-4850-9F53-343B679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9E7-1464-438A-9590-FE0D71E4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539-FD5E-465D-B0B2-2F1FBBD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F26-0C96-4E88-924D-140D141F3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hyperlink" Target="http://www.thednastore.com/images/Crick_bobble.jpg" TargetMode="External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hyperlink" Target="http://www.pbs.org/wgbh/nova/photo51/" TargetMode="Externa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johnkyrk.com/DNAreplication.html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y- 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Carrier of Genetic Inform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DNA Structure an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DNA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scs.une.edu.au/StudentFiles/HomePages/312_2_04/Elizabeth_webpage/images/spinning_DNA%20animation.gif"/>
          <p:cNvPicPr/>
          <p:nvPr/>
        </p:nvPicPr>
        <p:blipFill>
          <a:blip r:embed="rId1"/>
          <a:stretch/>
        </p:blipFill>
        <p:spPr>
          <a:xfrm>
            <a:off x="7391520" y="4484520"/>
            <a:ext cx="1474560" cy="237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fig.cox.miami.edu/~cmallery/150/chemistry/sf3x17b.jpg"/>
          <p:cNvPicPr/>
          <p:nvPr/>
        </p:nvPicPr>
        <p:blipFill>
          <a:blip r:embed="rId1"/>
          <a:stretch/>
        </p:blipFill>
        <p:spPr>
          <a:xfrm>
            <a:off x="1447920" y="533520"/>
            <a:ext cx="6400800" cy="587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cs.une.edu.au/StudentFiles/HomePages/312_2_04/Elizabeth_webpage/images/spinning_DNA%20animation.gif"/>
          <p:cNvPicPr/>
          <p:nvPr/>
        </p:nvPicPr>
        <p:blipFill>
          <a:blip r:embed="rId2"/>
          <a:stretch/>
        </p:blipFill>
        <p:spPr>
          <a:xfrm>
            <a:off x="7669080" y="2362320"/>
            <a:ext cx="1474920" cy="237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://scs.une.edu.au/StudentFiles/HomePages/312_2_04/Elizabeth_webpage/images/spinning_DNA%20animation.gif"/>
          <p:cNvPicPr/>
          <p:nvPr/>
        </p:nvPicPr>
        <p:blipFill>
          <a:blip r:embed="rId3"/>
          <a:stretch/>
        </p:blipFill>
        <p:spPr>
          <a:xfrm>
            <a:off x="0" y="2286000"/>
            <a:ext cx="1474920" cy="237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son and Crick’s studies of DNA demonstrated how information can be stored in the molecule’s structure and how DNA molecules can serve as templates for their own duplic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ttp://www.cs.brown.edu/courses/cs024/images/canon/48.jpg"/>
          <p:cNvPicPr/>
          <p:nvPr/>
        </p:nvPicPr>
        <p:blipFill>
          <a:blip r:embed="rId1"/>
          <a:stretch/>
        </p:blipFill>
        <p:spPr>
          <a:xfrm>
            <a:off x="6095880" y="2590920"/>
            <a:ext cx="2671920" cy="39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uring DNA replication, the two strands of the double helix unwind.  Each strand serves as a template for the formation of a new complementary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http://www.wiley.com/legacy/products/subject/life/genetics/fig13.jpg"/>
          <p:cNvPicPr/>
          <p:nvPr/>
        </p:nvPicPr>
        <p:blipFill>
          <a:blip r:embed="rId1"/>
          <a:stretch/>
        </p:blipFill>
        <p:spPr>
          <a:xfrm>
            <a:off x="5791320" y="228600"/>
            <a:ext cx="3160440" cy="354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conservative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replication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miconserv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 each newly formed double helix contains one old and one new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http://library.thinkquest.org/C006188/basics/pictures/dna_replication.gif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36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NA replication is a complex process requiring a number of differen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zyme that add new nucleotides to a growing DNA strand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ditional enzymes and other proteins are required to unwind and stabilize the separated DNA helix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ome function to link together fragments of newly synthesized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heli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oisome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NA prim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polyme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onuc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lig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A replication is bi-directional, starting at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origin of re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proceeding in both directions from that poi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3’ to 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nthesized 5’ to 3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ukaryotic chromosome may have multiple origins of replication and may be replicating at many points along its length at any one tim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n prokaryotes, replication begins at a single spot and proceeds in both directions to complete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ttp://img.sparknotes.com/figures/A/a0d1b3a1aaed46e29034f996722dd1a1/repfork2.gif"/>
          <p:cNvPicPr/>
          <p:nvPr/>
        </p:nvPicPr>
        <p:blipFill>
          <a:blip r:embed="rId1"/>
          <a:stretch/>
        </p:blipFill>
        <p:spPr>
          <a:xfrm>
            <a:off x="5410080" y="1752480"/>
            <a:ext cx="3257640" cy="202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svusd.org/hp_images/1752/D23427-Replication%20Bubbles.jpg"/>
          <p:cNvPicPr/>
          <p:nvPr/>
        </p:nvPicPr>
        <p:blipFill>
          <a:blip r:embed="rId1"/>
          <a:stretch/>
        </p:blipFill>
        <p:spPr>
          <a:xfrm>
            <a:off x="380880" y="685800"/>
            <a:ext cx="4362480" cy="54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pinkmonkey.com/studyguides/subjects/biology-edited/chap8/fig_8.gif"/>
          <p:cNvPicPr/>
          <p:nvPr/>
        </p:nvPicPr>
        <p:blipFill>
          <a:blip r:embed="rId2"/>
          <a:stretch/>
        </p:blipFill>
        <p:spPr>
          <a:xfrm>
            <a:off x="5105520" y="2057400"/>
            <a:ext cx="354960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portion of the double helix is unwou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licase and topoisomer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molecule of 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inds to one strand of the D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NA primase)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nd begins moving along it, using it as a template for assembling the new strand of nucleotides and reforming a double heli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omplementary base-pairing continues until the entire template strand has been re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series of enzymes seal the chains together and the double helix reform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onuclease and lig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synthesis 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proceeds in a 5’ to 3’ dire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(but reads the template strand in a 3’ to 5’ direction)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quires that one DNA strand (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ynthesized discontinuously, as 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Okaza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frag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site strand (</a:t>
            </a:r>
            <a:r>
              <a:rPr b="0" lang="en-US" sz="3200" spc="-1" strike="noStrike">
                <a:solidFill>
                  <a:srgbClr val="d6d6f5"/>
                </a:solidFill>
                <a:latin typeface="Times New Roman"/>
              </a:rPr>
              <a:t>the leading str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synthesized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C:\Documents and Settings\cassano\My Documents\2o9o7609o_1.jpg"/>
          <p:cNvPicPr/>
          <p:nvPr/>
        </p:nvPicPr>
        <p:blipFill>
          <a:blip r:embed="rId1"/>
          <a:stretch/>
        </p:blipFill>
        <p:spPr>
          <a:xfrm>
            <a:off x="4191120" y="0"/>
            <a:ext cx="2214360" cy="227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8" descr="C:\Documents and Settings\cassano\My Documents\Chargaff1S011max.jpg"/>
          <p:cNvPicPr/>
          <p:nvPr/>
        </p:nvPicPr>
        <p:blipFill>
          <a:blip r:embed="rId2"/>
          <a:stretch/>
        </p:blipFill>
        <p:spPr>
          <a:xfrm>
            <a:off x="0" y="0"/>
            <a:ext cx="17780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9" descr="C:\Documents and Settings\cassano\My Documents\franklin.jpg"/>
          <p:cNvPicPr/>
          <p:nvPr/>
        </p:nvPicPr>
        <p:blipFill>
          <a:blip r:embed="rId3"/>
          <a:stretch/>
        </p:blipFill>
        <p:spPr>
          <a:xfrm>
            <a:off x="1752480" y="0"/>
            <a:ext cx="242748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1" descr="C:\Documents and Settings\cassano\My Documents\maurice-wilkins-MED.jpg"/>
          <p:cNvPicPr/>
          <p:nvPr/>
        </p:nvPicPr>
        <p:blipFill>
          <a:blip r:embed="rId4"/>
          <a:stretch/>
        </p:blipFill>
        <p:spPr>
          <a:xfrm>
            <a:off x="3962520" y="152388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33" descr="C:\Documents and Settings\cassano\My Documents\Watson and Crick.gif"/>
          <p:cNvPicPr/>
          <p:nvPr/>
        </p:nvPicPr>
        <p:blipFill>
          <a:blip r:embed="rId5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4" descr="C:\Documents and Settings\cassano\My Documents\Watson.jpg"/>
          <p:cNvPicPr/>
          <p:nvPr/>
        </p:nvPicPr>
        <p:blipFill>
          <a:blip r:embed="rId6"/>
          <a:srcRect l="2065" t="2817" r="2025" b="6041"/>
          <a:stretch/>
        </p:blipFill>
        <p:spPr>
          <a:xfrm>
            <a:off x="5029200" y="2133720"/>
            <a:ext cx="2590920" cy="23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6" descr="http://www.thednastore.com/images/bobble.gif"/>
          <p:cNvPicPr/>
          <p:nvPr/>
        </p:nvPicPr>
        <p:blipFill>
          <a:blip r:embed="rId7"/>
          <a:stretch/>
        </p:blipFill>
        <p:spPr>
          <a:xfrm>
            <a:off x="6400800" y="0"/>
            <a:ext cx="1355760" cy="21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8" descr="http://www.thednastore.com/images/crick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01040" y="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9" descr="C:\Documents and Settings\cassano\My Documents\smhershey_chase.jpg"/>
          <p:cNvPicPr/>
          <p:nvPr/>
        </p:nvPicPr>
        <p:blipFill>
          <a:blip r:embed="rId10"/>
          <a:srcRect l="2501" t="4071" r="2501" b="5026"/>
          <a:stretch/>
        </p:blipFill>
        <p:spPr>
          <a:xfrm>
            <a:off x="0" y="25909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0" descr="C:\Documents and Settings\cassano\My Documents\averyS096max.jpg"/>
          <p:cNvPicPr/>
          <p:nvPr/>
        </p:nvPicPr>
        <p:blipFill>
          <a:blip r:embed="rId11"/>
          <a:srcRect l="0" t="0" r="0" b="7773"/>
          <a:stretch/>
        </p:blipFill>
        <p:spPr>
          <a:xfrm>
            <a:off x="0" y="4343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41" descr="http://www.nationmaster.com/wikimir/images/upload.wikimedia.org/wikipedia/en/thumb/8/87/LinusPauling.jpeg/210px-LinusPauling.jpeg"/>
          <p:cNvPicPr/>
          <p:nvPr/>
        </p:nvPicPr>
        <p:blipFill>
          <a:blip r:embed="rId12"/>
          <a:stretch/>
        </p:blipFill>
        <p:spPr>
          <a:xfrm>
            <a:off x="1752480" y="434340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42" descr="http://www.rsnz.org/topics/biol/dna50/images/Miescher.jpg"/>
          <p:cNvPicPr/>
          <p:nvPr/>
        </p:nvPicPr>
        <p:blipFill>
          <a:blip r:embed="rId13"/>
          <a:srcRect l="13013" t="0" r="13313" b="21328"/>
          <a:stretch/>
        </p:blipFill>
        <p:spPr>
          <a:xfrm>
            <a:off x="3429000" y="2895480"/>
            <a:ext cx="1727280" cy="24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3" descr="http://history.nih.gov/exhibits/nirenberg/images/photos/03_watCrk_pu.jpg"/>
          <p:cNvPicPr/>
          <p:nvPr/>
        </p:nvPicPr>
        <p:blipFill>
          <a:blip r:embed="rId14"/>
          <a:stretch/>
        </p:blipFill>
        <p:spPr>
          <a:xfrm>
            <a:off x="3429000" y="5194440"/>
            <a:ext cx="2133720" cy="166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44" descr="C:\Documents and Settings\cassano\My Documents\p50.jpg"/>
          <p:cNvPicPr/>
          <p:nvPr/>
        </p:nvPicPr>
        <p:blipFill>
          <a:blip r:embed="rId15"/>
          <a:srcRect l="3019" t="6186" r="5162" b="5153"/>
          <a:stretch/>
        </p:blipFill>
        <p:spPr>
          <a:xfrm>
            <a:off x="7313760" y="1905120"/>
            <a:ext cx="183024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5" descr="C:\Documents and Settings\cassano\My Documents\s5.xraydn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670040" y="2584440"/>
            <a:ext cx="2073240" cy="207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027400" y="571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NA Replication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http://users.rcn.com/jkimball.ma.ultranet/BiologyPages/R/ReplicationFork.gif"/>
          <p:cNvPicPr/>
          <p:nvPr/>
        </p:nvPicPr>
        <p:blipFill>
          <a:blip r:embed="rId2"/>
          <a:stretch/>
        </p:blipFill>
        <p:spPr>
          <a:xfrm>
            <a:off x="1828800" y="228600"/>
            <a:ext cx="513396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homepages.ius.edu/gkirchne/bubble.jpg"/>
          <p:cNvPicPr/>
          <p:nvPr/>
        </p:nvPicPr>
        <p:blipFill>
          <a:blip r:embed="rId1"/>
          <a:stretch/>
        </p:blipFill>
        <p:spPr>
          <a:xfrm>
            <a:off x="25560" y="2133720"/>
            <a:ext cx="911844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A is a very regular polymer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tid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ding block of DNA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ach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tid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ubunit contains a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itrogenous b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which may be one of th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r one of th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imidin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ymin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ytosin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).  Each base is covalently linked to a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ive-carbon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g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eoxyribos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, which is covalently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bonded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to a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osphate gro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nucleotides are linked by covalent bonds to form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ng sugar-phosphate backb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ach DNA molecule is composed of two polynucleotide chains that combine to form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 heli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two chains 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parall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meaning they run in opposite directions)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C:\Documents and Settings\cassano\My Documents\nucleotides.gif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44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cassano\My Documents\img02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www.agen.ufl.edu/~chyn/age2062/lect/lect_02/3_3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33520" y="21337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ond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 flipV="1">
            <a:off x="1523880" y="2361600"/>
            <a:ext cx="1067760" cy="686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7" name="Straight Arrow Connector 6"/>
          <p:cNvCxnSpPr/>
          <p:nvPr/>
        </p:nvCxnSpPr>
        <p:spPr>
          <a:xfrm flipV="1">
            <a:off x="1828800" y="1599840"/>
            <a:ext cx="2820240" cy="1905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lclark.edu/~seavey/Bio151/151%20web%20images/D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two chains of the helix are held together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ydrogen bonding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between specific base pai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A) bonds wit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ym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n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G) bonds wit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tos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C)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base-pairing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between A and T and between G and 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Because the two strands of DNA are held together by complementary base-pairing, it is possible to predict the base sequence of one strand if one knows the base sequence of the other str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3:26:06Z</dcterms:created>
  <dc:creator>CASSANO</dc:creator>
  <dc:description/>
  <dc:language>en-US</dc:language>
  <cp:lastModifiedBy>cassano</cp:lastModifiedBy>
  <dcterms:modified xsi:type="dcterms:W3CDTF">2014-03-24T16:32:47Z</dcterms:modified>
  <cp:revision>13</cp:revision>
  <dc:subject/>
  <dc:title>AP Biology- Chapter 11</dc:title>
</cp:coreProperties>
</file>